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35131"/>
        <c:axId val="59546968"/>
      </c:barChart>
      <c:catAx>
        <c:axId val="53435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46968"/>
        <c:crosses val="autoZero"/>
        <c:auto val="1"/>
        <c:lblAlgn val="ctr"/>
        <c:lblOffset val="100"/>
        <c:noMultiLvlLbl val="0"/>
      </c:catAx>
      <c:valAx>
        <c:axId val="59546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35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D3E-5369-46AA-97C2-FA73D69B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900-71F7-4516-AAAE-62ED78AA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1F1-4C41-4A9E-8D43-A0AE6262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966-A123-4733-906B-E23503C7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402-EA64-4604-8980-DBE0B72B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FFC-8B68-42C7-A817-24E318A2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E97-0E81-4F95-943F-F0473B99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A09-8A0D-4440-A83F-6B3E1C9E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156-305F-4278-9533-8AC05C99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EEE0-5C15-4DDB-8730-FB3B585E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564-CACC-4589-BCB3-8031CD7F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E01-E88D-4118-81FD-1D100B1C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76C46-6214-442E-AB5E-33ADDD6E1A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