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84895"/>
        <c:axId val="31779492"/>
      </c:barChart>
      <c:catAx>
        <c:axId val="2928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9492"/>
        <c:crosses val="autoZero"/>
        <c:auto val="1"/>
        <c:lblAlgn val="ctr"/>
        <c:lblOffset val="100"/>
        <c:noMultiLvlLbl val="0"/>
      </c:catAx>
      <c:valAx>
        <c:axId val="31779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424-9CD8-4107-8792-3F9B5DFA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004-EC66-4343-B1CA-82042281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06F-A4FE-45E6-AA10-A7A69798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1A8-E20B-4843-ACB5-A039AB41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DBC-A9C1-40CE-8854-7DC2AB0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1AE-0ADF-4C4E-B486-CB7CA19C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69A-AC7C-4489-9369-122521B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277-6D75-46D6-B827-2EF7112B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78A-C6FF-4B8A-9CAD-86B9FB6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1B1-CCB4-47D8-A1BD-4B9B1FE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C21-B754-4C90-B298-8EE8FE5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DC5-F876-4A97-BEF1-D8D58C3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1C5A1-0B54-45AC-9CA0-398B3298C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