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48580"/>
        <c:axId val="41830727"/>
      </c:barChart>
      <c:catAx>
        <c:axId val="49648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30727"/>
        <c:crosses val="autoZero"/>
        <c:auto val="1"/>
        <c:lblAlgn val="ctr"/>
        <c:lblOffset val="100"/>
        <c:noMultiLvlLbl val="0"/>
      </c:catAx>
      <c:valAx>
        <c:axId val="41830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48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24D-8CD1-4EC7-AD49-FD5FEF26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C64-FFA7-48B8-8597-1D0B92D9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B80-44CB-4DC3-90E4-B2E853B6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836-6D25-4B9A-913B-D66FEBEC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2AD-FDE7-49F2-8FBB-7AFEEFCD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141-A2A3-4587-8299-B519EAF7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8CA-232E-463C-ACA0-014D5324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4EC-EC62-42FE-997F-A5D18451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838-81F1-485E-9FDD-E86C99F3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C71-037A-497F-904E-59136480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853-93B2-4EBD-AE35-82FF5343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CBE-EF6F-4320-AD28-BB4C22B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A6D88-01F8-4DD9-A05E-1E9923A9AE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