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280577"/>
        <c:axId val="93382937"/>
      </c:barChart>
      <c:catAx>
        <c:axId val="472805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82937"/>
        <c:crosses val="autoZero"/>
        <c:auto val="1"/>
        <c:lblAlgn val="ctr"/>
        <c:lblOffset val="100"/>
        <c:noMultiLvlLbl val="0"/>
      </c:catAx>
      <c:valAx>
        <c:axId val="93382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805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DED7-C07F-4F1F-AB81-1086297F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5491-E850-48AB-B560-0228F418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1BBB-7134-4ADD-A4D0-919E7BF6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E8BC-C7CF-4173-8E35-B06F1D5C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0BFB-4576-4049-BE1A-90DF558E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0DD9-A86D-418F-A9FB-2CCC41B3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B17A-5C22-45F4-AEAE-2B0F50BD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D6E4-8B92-4CD2-8CF4-B29B4BDA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0BC-FA05-4819-8E8B-E83D2461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539-5580-4F9F-8FE3-3EB648A1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2E4-2824-4ADA-AE0C-29461856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F236-560F-4620-8419-F39877B6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75D9B-CD79-4B97-B0C6-1BC04CF340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