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32257"/>
        <c:axId val="77175873"/>
      </c:barChart>
      <c:catAx>
        <c:axId val="15632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75873"/>
        <c:crosses val="autoZero"/>
        <c:auto val="1"/>
        <c:lblAlgn val="ctr"/>
        <c:lblOffset val="100"/>
        <c:noMultiLvlLbl val="0"/>
      </c:catAx>
      <c:valAx>
        <c:axId val="77175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32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F7F-BD91-4C1C-8A05-40D9CE47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A61-D6B9-4757-BD08-13687567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CFC-4ED4-4677-A263-64C47DD0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0FD-514F-423F-8F06-6AE2A61F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206-00CE-4336-80D1-1B8F6AF5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FEE-F9D6-4B96-ADAB-1281B943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222E-1203-42DA-A706-731D5011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DD4B-2904-42B5-B2C1-3754533B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AC8-E63B-458C-BDC2-774D7105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B68-0D38-4126-997D-52E57D0C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C20-2CC3-4224-BF9A-F8A38F51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671-B43E-4E1F-9EA7-C0C154F1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CBECA-6F63-442F-8228-91E81983FB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