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90930"/>
        <c:axId val="78845538"/>
      </c:barChart>
      <c:catAx>
        <c:axId val="31290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5538"/>
        <c:crosses val="autoZero"/>
        <c:auto val="1"/>
        <c:lblAlgn val="ctr"/>
        <c:lblOffset val="100"/>
        <c:noMultiLvlLbl val="0"/>
      </c:catAx>
      <c:valAx>
        <c:axId val="78845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90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BEB-0271-48F0-B0F3-6E3CA0E4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E74-D2D9-438C-A230-C8F0A231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EE0-1271-4737-908D-AFDB0F78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755-AA78-404A-8157-69559576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121-E863-4635-B510-68984E4A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F10-7F81-47C2-826C-6184CF0A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8A3-29C6-4E52-8EBC-DF7C38CD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994-1F02-4A99-864F-ED7FD560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334-978B-411D-9A56-9D55E8AD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4A1-F8CD-4E1C-B427-0E5D0E9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CE1-8438-4DDC-9461-59993A7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373-6558-435C-84F8-E8CB214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7B28-B37C-4610-B727-29669AA4D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