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91836"/>
        <c:axId val="85155582"/>
      </c:barChart>
      <c:catAx>
        <c:axId val="99183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155582"/>
        <c:crosses val="autoZero"/>
        <c:auto val="1"/>
        <c:lblAlgn val="ctr"/>
        <c:lblOffset val="100"/>
        <c:noMultiLvlLbl val="0"/>
      </c:catAx>
      <c:valAx>
        <c:axId val="8515558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183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8C2B8-D92E-4E08-99BC-C8680AC00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304E9-DBEA-4249-B9AF-3BBE97A77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90851-2994-4149-927E-E65F1C1AE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0484E-5479-4666-95AB-210DEE1A1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FA9F9-1F10-47BA-8C5A-399B63984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94298-667C-4481-9FB2-8DAC5E40A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58E93-A41A-4367-922D-E6A3B54CC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D70C9-40F4-4F66-93DB-B9AC16B74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E2A4B-6E2D-42CF-98BB-82A7282D3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2B482-B19D-4554-AF50-E5893170F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0E09E-74DD-4D7F-AC8A-8B8366960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77523-C773-41E4-BA10-126221593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8BE45B-C2E0-4927-9228-C3B27DC3FAF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