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22842"/>
        <c:axId val="37435091"/>
      </c:barChart>
      <c:catAx>
        <c:axId val="35722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35091"/>
        <c:crosses val="autoZero"/>
        <c:auto val="1"/>
        <c:lblAlgn val="ctr"/>
        <c:lblOffset val="100"/>
        <c:noMultiLvlLbl val="0"/>
      </c:catAx>
      <c:valAx>
        <c:axId val="37435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22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8B5-AE5D-4D08-BF96-0F85831E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808-B78F-4891-B023-C32CAA8D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8027-1E45-49E9-9924-878DC9C7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E91-2AC8-43D9-AB5D-7E78AE51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FADD-E80B-46CB-974C-FA5E4AA2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93D-B6E6-49A9-9254-09B5A698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AEC-7E4B-4332-B4B4-192E52CA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420-88E7-43C3-B212-DD8EFF49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914-63C3-429C-8AE8-33B79F26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2B1-30F6-4749-897C-B57ED383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52F-A1C5-40F3-967B-DC6EC245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549-1358-41A9-8B99-89412F15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85FED-E0E2-4F25-9D1F-8A6D6A155F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