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6819103"/>
        <c:axId val="91232682"/>
      </c:barChart>
      <c:catAx>
        <c:axId val="3681910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232682"/>
        <c:crosses val="autoZero"/>
        <c:auto val="1"/>
        <c:lblAlgn val="ctr"/>
        <c:lblOffset val="100"/>
        <c:noMultiLvlLbl val="0"/>
      </c:catAx>
      <c:valAx>
        <c:axId val="9123268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81910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BD860-94C9-4BDB-999F-326F1600A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A1252-A788-47AD-B807-7EAA300F5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B6AE0-6D86-4F5A-8BED-21A4F5D83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F9292-C33C-44DD-B598-814D72CE9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F97F3-FA1A-45E6-BFF7-AC16D070B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BC7A7-11A1-4391-88C3-3E60867CF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89922-7F23-41AC-8206-E3CE9361D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C391D-EBEE-43FC-BD25-86AE55FD0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4881E-2885-40D2-BD28-4918082EF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D5101-0C62-48DC-B9BA-014D66BD0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7540E-B70B-431A-82A7-B583BAEEC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B83F6-FC69-44E3-8B61-557003336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468036-C52D-4818-9663-18FC499F4C5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