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2295996"/>
        <c:axId val="83096235"/>
      </c:barChart>
      <c:catAx>
        <c:axId val="1229599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096235"/>
        <c:crosses val="autoZero"/>
        <c:auto val="1"/>
        <c:lblAlgn val="ctr"/>
        <c:lblOffset val="100"/>
        <c:noMultiLvlLbl val="0"/>
      </c:catAx>
      <c:valAx>
        <c:axId val="8309623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29599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19D2C-F1A8-4DE6-9E87-09AAB3438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30FB6-E654-4EF4-A7D5-C1022B657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D5A99-8974-4C1C-83CB-FC20202F7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F80DF-4198-47CB-9587-E4169299B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7A524-6474-4C0B-86B1-0015AE27D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31248-73D7-403B-B1D3-AB7FA06E8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E3DDF-E3A1-4CBD-BDE4-8C18F285C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6BBC9-7D8A-4CE1-B8E0-540863D39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AAD63-6811-406F-ACF0-1A8C3FF4E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12D6C-FB77-4196-B3FB-77350FAFB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A7F40-DB29-415E-8D5A-FB2D85EEB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B3FFA-47E8-4848-8386-FC2A02F12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FC0BB7-6E0A-4B32-B942-3BC221854D0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