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22727"/>
        <c:axId val="96655855"/>
      </c:barChart>
      <c:catAx>
        <c:axId val="67822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55855"/>
        <c:crosses val="autoZero"/>
        <c:auto val="1"/>
        <c:lblAlgn val="ctr"/>
        <c:lblOffset val="100"/>
        <c:noMultiLvlLbl val="0"/>
      </c:catAx>
      <c:valAx>
        <c:axId val="96655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22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381-73AD-4515-85C9-94D9DFC2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8F1-A3EC-4B63-A6DE-6DF94952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717-8A4D-49D9-A240-102A8CF2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E3A-19EA-41A2-BF3A-947AF91C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223-B802-4D86-8977-84D0B39B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718-A90F-49FB-AEF4-A7FFA00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68D-1571-4497-97E5-9F39BD8E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76A-5699-4DF9-AE63-78113B47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DAE-1A70-4189-B2C2-14C42ECE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44D-99F5-4840-BCF6-C0BF449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86D-AEBC-41F5-A274-46D0537E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549-C550-443D-B438-BB5B534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A5ED1-D346-4B9F-9A02-B1124A942B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