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31267"/>
        <c:axId val="34096833"/>
      </c:barChart>
      <c:catAx>
        <c:axId val="31431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96833"/>
        <c:crosses val="autoZero"/>
        <c:auto val="1"/>
        <c:lblAlgn val="ctr"/>
        <c:lblOffset val="100"/>
        <c:noMultiLvlLbl val="0"/>
      </c:catAx>
      <c:valAx>
        <c:axId val="34096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31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726-3261-425B-80E2-B2D87DEE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901-33CD-4012-802C-BBBCA9EB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CCF-66AC-43A7-B3ED-1BCC2B8C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C7B-F75B-45BB-9140-48BA72F9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40B-CE08-4F06-B4AA-A3DEC381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E2F-E23C-4E73-A877-18132CEF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CD2-DD9B-4690-88DC-B844061A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434-25D3-4E95-A839-6D0C7846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5A2-9138-4A96-89D6-8ACA4AF3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77C-EAF9-4303-BAA3-ED65833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A32-46EB-4921-93CB-4B8ABEF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85B-1F62-44F8-BB84-D279348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51D50-8E3B-49EB-99B6-512723D62A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