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537580"/>
        <c:axId val="66049684"/>
      </c:barChart>
      <c:catAx>
        <c:axId val="975375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49684"/>
        <c:crosses val="autoZero"/>
        <c:auto val="1"/>
        <c:lblAlgn val="ctr"/>
        <c:lblOffset val="100"/>
        <c:noMultiLvlLbl val="0"/>
      </c:catAx>
      <c:valAx>
        <c:axId val="660496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375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B6C-6A2E-4E00-BEB7-664E6708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197-31B4-4069-B525-489900E3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6AB-5A00-4487-B880-7CB0B65D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0A1-08BC-443E-8CB6-41B89276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C785-6751-4B07-93D4-2117D486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FB89-F4AF-45AB-A077-6BA0C11A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78A6-97F4-458D-9A27-8961C00B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B74-D2E0-43E7-93F3-C608D2EC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71F6-F576-4B6B-8674-E3E74EB6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1BBD-87AC-461A-880B-F33828CE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5C7C-304E-4981-85DD-3FC636AC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E1F-4413-4C89-A5C4-A1BF284F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896B0-88A4-41E1-AEF3-2E2863D384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