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1868"/>
        <c:axId val="72611612"/>
      </c:barChart>
      <c:catAx>
        <c:axId val="2731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1612"/>
        <c:crosses val="autoZero"/>
        <c:auto val="1"/>
        <c:lblAlgn val="ctr"/>
        <c:lblOffset val="100"/>
        <c:noMultiLvlLbl val="0"/>
      </c:catAx>
      <c:valAx>
        <c:axId val="72611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1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C29-6F51-465A-940E-44364D64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7A3-4F4E-45C5-B8C3-B3DEA52F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3AD-E0FA-4077-88AD-DD679D94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C1A-197E-451D-B2F8-880314CA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CE2-29CF-4C77-B865-4A908D2D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AC6-3F13-478B-B64C-1631D50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2F8-6731-4DBA-B032-BA233F63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DCE-1993-4BF3-96BB-A0E2834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372-6199-47EC-BB37-1CDB9EC9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B3D-7F13-4A4B-BC54-BD47A8E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CD7-9F35-418F-A8C9-D03013F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E77-DD67-4EF5-B0FB-B9AB9D9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F3DEC-D008-4C6C-9A61-B9BCB8CB55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