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225183"/>
        <c:axId val="71854561"/>
      </c:barChart>
      <c:catAx>
        <c:axId val="462251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854561"/>
        <c:crosses val="autoZero"/>
        <c:auto val="1"/>
        <c:lblAlgn val="ctr"/>
        <c:lblOffset val="100"/>
        <c:noMultiLvlLbl val="0"/>
      </c:catAx>
      <c:valAx>
        <c:axId val="718545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2251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0682-2046-4060-914E-ABE071FFA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6A97-8AB6-4DA8-B2C6-AC338C8B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7ACF-F526-4184-B8CA-C0F1AA9E8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0B9B-E4B9-445D-BD44-2A01E99FE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582B-59D7-4ECE-9FDD-4A163429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D871-C9AD-424A-8011-389BCB2C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4D39-F826-49DA-823F-29882069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E117-E109-41DB-A5A3-B7044C40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4EE9-F804-4215-A79C-01F2B21D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E70D-5CBB-4EB0-A833-99082270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F151-611E-4C7C-8C3E-14351134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C4B6-F1E1-458A-8AE9-1459DFB7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54ACA8-D5CF-4BCF-AC34-057B6F3408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