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489373"/>
        <c:axId val="35546125"/>
      </c:barChart>
      <c:catAx>
        <c:axId val="51489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46125"/>
        <c:crosses val="autoZero"/>
        <c:auto val="1"/>
        <c:lblAlgn val="ctr"/>
        <c:lblOffset val="100"/>
        <c:noMultiLvlLbl val="0"/>
      </c:catAx>
      <c:valAx>
        <c:axId val="35546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89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D2C-A517-46CB-857C-EFF86D44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4FF1-9952-4BD4-965F-8C882455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6C58-1E39-413A-A9E5-FFB5264D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0224-96CA-41DF-80FD-FAEB7602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B704-DA8A-4AC8-BE2B-D635442B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3716-8D04-4E08-8EFC-4FEAB269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DAAE-406A-487B-8D50-ED139B9B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6AD9-38D5-4D06-8B36-6791E7EA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21F-1DD6-479A-92F4-C6C4F07B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9419-37BA-4450-B62B-BCA39096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62A6-79F0-4987-A4F2-87E6336B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4D0-08BD-43FA-842C-C7C51DDA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971B6-1E88-4021-AAB4-2DC9B4E210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