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09474"/>
        <c:axId val="76840585"/>
      </c:barChart>
      <c:catAx>
        <c:axId val="92709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0585"/>
        <c:crosses val="autoZero"/>
        <c:auto val="1"/>
        <c:lblAlgn val="ctr"/>
        <c:lblOffset val="100"/>
        <c:noMultiLvlLbl val="0"/>
      </c:catAx>
      <c:valAx>
        <c:axId val="76840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09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EA1-A443-491E-87D1-5E065456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D6E-CCB6-4201-B1FC-119AFA3E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5F0-EEE9-45D1-B50D-D8F98F86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511-2ABD-4BB0-B8AF-E92F9A0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F93-4B25-4539-B527-38D53F5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E83-E4A6-4A88-8323-1DF81D4D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4DC-B470-4CF5-8439-D173AE7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167-1622-4053-A5A6-71F284C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FC8-94EA-4EC6-8664-C4C2034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0C3-44D1-4F33-A4AE-59AE9F8B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503-9AA6-4CCC-8C47-1475C404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6B4-7082-4D99-9342-14493E4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4DFAF-B3F8-4E27-BB41-A0FB77B9D7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