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90820"/>
        <c:axId val="58766140"/>
      </c:barChart>
      <c:catAx>
        <c:axId val="58190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66140"/>
        <c:crosses val="autoZero"/>
        <c:auto val="1"/>
        <c:lblAlgn val="ctr"/>
        <c:lblOffset val="100"/>
        <c:noMultiLvlLbl val="0"/>
      </c:catAx>
      <c:valAx>
        <c:axId val="58766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0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7A0-1133-4B95-8D19-67A4537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821-FF24-4708-8667-F4C16065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1FC-5613-41B0-8D58-621782DC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684-A514-4BB0-A8F8-153D1926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851-DC9A-4A86-B5A1-F119777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29D-CB24-4E64-9721-D28D99D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7C5-10EA-4432-8DD7-2A4D2B4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B7B-2EC4-466F-A76A-11AF0DCC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468-1FDB-46DA-92C8-158464FC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A8E-BECF-484D-9E76-8747E42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0B3-284E-4EA2-94D4-0DE569E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036-FE9D-4881-8B69-34BEA37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8E5FA-219F-4A8B-888F-017502550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