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94117"/>
        <c:axId val="48249928"/>
      </c:barChart>
      <c:catAx>
        <c:axId val="93894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9928"/>
        <c:crosses val="autoZero"/>
        <c:auto val="1"/>
        <c:lblAlgn val="ctr"/>
        <c:lblOffset val="100"/>
        <c:noMultiLvlLbl val="0"/>
      </c:catAx>
      <c:valAx>
        <c:axId val="48249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94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292-3A24-46C9-BCEE-0EE3CE8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F7A-898F-400C-B4C1-08DAB66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10F-ADA0-410D-A622-E809C591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2AD-BA60-427D-A903-E48A4B5E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05D-8125-481E-9DEC-699849D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C34-9A20-43ED-BA91-58FD20EC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300-1511-42F4-85D7-FA8A51C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B43-CAF0-4AC3-85CE-EFECFE47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817-1961-424E-AAB2-A1A279D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6CB-A467-458C-9113-B65E5C08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822-743A-482B-9822-7309E34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3EA-E0EB-498A-BA32-4FC2138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F4949-7BB9-46BF-A9D5-AF3FB866B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