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30574"/>
        <c:axId val="56637699"/>
      </c:barChart>
      <c:catAx>
        <c:axId val="449305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637699"/>
        <c:crosses val="autoZero"/>
        <c:auto val="1"/>
        <c:lblAlgn val="ctr"/>
        <c:lblOffset val="100"/>
        <c:noMultiLvlLbl val="0"/>
      </c:catAx>
      <c:valAx>
        <c:axId val="566376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305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95D9-6370-490E-B9CF-B248F94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A1C4-F38F-43F4-A0A3-A57B4E94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0525-6231-4A9B-97E6-9B30AEE9A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715A-318F-4F27-9A34-F5EA8E40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FCC-65E0-4CD7-A149-64D96657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0D4E-4252-4F53-82B9-17D0D7C47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29F3-9013-427E-8F36-83BFF81B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9578-E58B-403A-9765-C64F4D69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6C06-59F3-4D3E-81DC-96039137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4B6-844F-4549-85EE-26476125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1EA-C660-44FA-94EE-C9B5285BF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CF4-872E-4AB6-B765-60BDF1751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0B383E-7256-4D76-AE38-7129B7836A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