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52473"/>
        <c:axId val="17712263"/>
      </c:barChart>
      <c:catAx>
        <c:axId val="24852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12263"/>
        <c:crosses val="autoZero"/>
        <c:auto val="1"/>
        <c:lblAlgn val="ctr"/>
        <c:lblOffset val="100"/>
        <c:noMultiLvlLbl val="0"/>
      </c:catAx>
      <c:valAx>
        <c:axId val="17712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2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186-D67F-4F4C-8673-D9E4E139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00F-7CD2-40A1-BB20-F5B4935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28E-2753-4E10-956D-5C6C577C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E29-3EF4-4FF9-A689-5E0F52B0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58C-0443-40DB-8029-7C413994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B03-3AF4-468A-9780-687C2D0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1AE-7CF8-4BD8-ACCC-DAE0D46A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E3C-F063-477E-A403-1C037BF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D44-3E31-409E-9B37-CD56A845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C72-2408-41E7-BA7A-464A7651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EDF-C12F-4323-86C2-B9FB59A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3C0-A746-4EA4-BE0F-750A9F6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1CB4-46D4-4EC8-9DF9-5C20D29DA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