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05782"/>
        <c:axId val="97900927"/>
      </c:barChart>
      <c:catAx>
        <c:axId val="58705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0927"/>
        <c:crosses val="autoZero"/>
        <c:auto val="1"/>
        <c:lblAlgn val="ctr"/>
        <c:lblOffset val="100"/>
        <c:noMultiLvlLbl val="0"/>
      </c:catAx>
      <c:valAx>
        <c:axId val="97900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05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D76-305D-4ABB-9B4F-1F312E84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FCD-7966-4AEB-AEE9-1EB24DA4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C85-21BA-41E8-9451-82FB809F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E0E-22EF-4967-B673-2D372D40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667-C06A-4D9E-88AD-E6C805F2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8A7-7852-4FCE-9966-DB21708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FA4-4354-427B-A477-40A540E0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1D3-9674-4FBA-BB27-DE2D9FD5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399-2457-42B3-A396-998C4ECC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CF6-1602-4C26-8AC7-A635E38D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397-49B4-4CD3-A534-8D5F194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B7D-BC8A-4CBC-AE57-39339FE0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43C06-5F53-4F7A-BAD6-18689C606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