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64110"/>
        <c:axId val="85819913"/>
      </c:barChart>
      <c:catAx>
        <c:axId val="41664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19913"/>
        <c:crosses val="autoZero"/>
        <c:auto val="1"/>
        <c:lblAlgn val="ctr"/>
        <c:lblOffset val="100"/>
        <c:noMultiLvlLbl val="0"/>
      </c:catAx>
      <c:valAx>
        <c:axId val="858199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64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4928-A19D-44AD-9893-349647EA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172-79AD-4486-B0E7-3F937FE2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19C7-4303-4618-A8C8-69AC3B67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DFD-732C-412E-A149-61430A33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CFB3-04C4-480A-891F-5B7A8FBC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FA2-C19D-48E8-A34C-41680C76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D10-885D-4FFC-8ED9-C00BFC33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F1C-6378-4F6F-92E5-5356C0AD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AD1-9E51-4697-B366-AB13E176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3D9-73F1-4B84-9C5A-6A930887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0AD-FB24-4A75-A5B7-A35EE01F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97D-7D7B-4ADF-88B6-64B69669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13DA7-618D-47A4-A525-74D1931CA6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