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364741"/>
        <c:axId val="48374169"/>
      </c:barChart>
      <c:catAx>
        <c:axId val="543647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374169"/>
        <c:crosses val="autoZero"/>
        <c:auto val="1"/>
        <c:lblAlgn val="ctr"/>
        <c:lblOffset val="100"/>
        <c:noMultiLvlLbl val="0"/>
      </c:catAx>
      <c:valAx>
        <c:axId val="483741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3647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1D71-1271-4A34-B6AB-82C96B2DD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9BB5-E238-478A-9AEB-196FFB9C6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E192-6955-4797-A6F9-7902447D7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75004-E5E1-4D37-A9C2-3A6D4C941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3E10-0C4D-4084-8E39-D58D466CF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3908-54BD-425B-AEDF-B165B666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CA9F-0455-46FE-86F2-034061271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C110-AC3C-4B43-8C9A-167DC48C6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3327-1A12-4206-8BD0-57389C178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631F-CC36-4B9B-8FC5-2CE5E6C4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476F-9956-47FC-BD3C-DFE3440B6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F42D-9A4F-49E5-9A5F-865D5C60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A07E28-C6E4-4B6F-972A-B67F1F51C3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