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72989"/>
        <c:axId val="60808148"/>
      </c:barChart>
      <c:catAx>
        <c:axId val="80472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08148"/>
        <c:crosses val="autoZero"/>
        <c:auto val="1"/>
        <c:lblAlgn val="ctr"/>
        <c:lblOffset val="100"/>
        <c:noMultiLvlLbl val="0"/>
      </c:catAx>
      <c:valAx>
        <c:axId val="60808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72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BE1-092C-43EA-B24C-305E9E3B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D4D-D0A8-4F6E-B994-C99FFF9E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09B-5904-4ACB-9D51-9745DBB1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710-5DF0-4533-858A-14DF0B93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546-72C5-4E25-8167-A3C65AC4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51B-D2AD-4C22-9AFE-BF12946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4F3-69F0-47E3-9F60-47C0BA8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186-00E3-469C-AB11-73F2FF65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D9B-A8F2-4B38-8B25-8CB29F39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90F-892B-4B25-9B19-A957018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029-2349-4C31-8A96-3841E91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B09F-7B08-4E08-AAE0-E8C7DE3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36DDE-E5CD-4149-9457-47A7FAE2AF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