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88188"/>
        <c:axId val="50090741"/>
      </c:barChart>
      <c:catAx>
        <c:axId val="22888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90741"/>
        <c:crosses val="autoZero"/>
        <c:auto val="1"/>
        <c:lblAlgn val="ctr"/>
        <c:lblOffset val="100"/>
        <c:noMultiLvlLbl val="0"/>
      </c:catAx>
      <c:valAx>
        <c:axId val="50090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88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D0E-67B3-418B-8114-F7FF120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678-2CEE-476D-8E14-AD136FBF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351-2951-49ED-AFA3-15043BF5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851-722A-4BB0-838B-10BF6946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267-97F7-43D2-B5DE-AF785C4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664-378C-4946-9A19-CF4C061F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C4E-48CD-4625-AFE7-0C5DC6E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273-73E0-4DDF-ACDC-1839693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AA5-446B-441F-AE88-A89CDD67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047-B718-48C0-A1AE-CED1A5B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EE9-A8BF-4EF4-87A9-E4A58BF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9D3-19B2-4EF2-A452-06864602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5E78-5BE4-4096-AD10-8DDD4E382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