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06483"/>
        <c:axId val="90417241"/>
      </c:barChart>
      <c:catAx>
        <c:axId val="97306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17241"/>
        <c:crosses val="autoZero"/>
        <c:auto val="1"/>
        <c:lblAlgn val="ctr"/>
        <c:lblOffset val="100"/>
        <c:noMultiLvlLbl val="0"/>
      </c:catAx>
      <c:valAx>
        <c:axId val="90417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6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720-171E-4528-A064-3561625C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FB8-448B-42A3-938D-580D6CF8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0EA-F2D6-49FC-8084-F19DC108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E64-1FA1-4D2F-A39E-AF176F06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900-4A03-4056-B29C-E3F09236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627-F917-4A29-B368-E1EB252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2FF-9128-4377-A59F-159209CD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EF3-39FD-4B8D-8BC4-A5E9F502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E69-AE20-4A77-91DE-74358708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01E-5092-471E-B6C6-49892A3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8D0-4A8E-40A4-B21D-EB0802A5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CD1-653F-4FEC-8C58-D3ED473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82161-41AA-49EB-BC42-940A66D943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