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96929"/>
        <c:axId val="98663211"/>
      </c:barChart>
      <c:catAx>
        <c:axId val="88796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63211"/>
        <c:crosses val="autoZero"/>
        <c:auto val="1"/>
        <c:lblAlgn val="ctr"/>
        <c:lblOffset val="100"/>
        <c:noMultiLvlLbl val="0"/>
      </c:catAx>
      <c:valAx>
        <c:axId val="98663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96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FB5-8479-4135-A21E-4DF8137A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BC4-E996-44BE-9E58-2D3765BA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819-B4AB-4B1B-B381-F3B2C816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D49-360C-4AAA-86F7-2B206928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A59-2367-4581-8197-6F5CF9BF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D0A-341F-430E-981A-15E71F96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987-F35C-4825-A8C8-51740B4D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585-2CF9-45B8-A555-D81BE0BE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E84-1A03-4523-98F6-43FD8387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E45-32D1-47D4-A7DD-BAB54A08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322-EB28-412A-ACB5-0FC01AF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F17-EEEC-4AB3-A612-69E576F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00564-F7C5-4315-A5EA-8B57CEBF45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