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4613"/>
        <c:axId val="76455070"/>
      </c:barChart>
      <c:catAx>
        <c:axId val="1454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55070"/>
        <c:crosses val="autoZero"/>
        <c:auto val="1"/>
        <c:lblAlgn val="ctr"/>
        <c:lblOffset val="100"/>
        <c:noMultiLvlLbl val="0"/>
      </c:catAx>
      <c:valAx>
        <c:axId val="76455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4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AB8-378B-42E2-9DD6-1A8939B2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448-34FB-47A7-81F4-1F17A308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45D-BD44-458A-9A95-64697452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452-EC8A-452B-BE0A-19C030FD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98A-4BB9-4603-9F29-1B780338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D44-505A-4152-B43F-BF665565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F64-67DD-480D-AA2F-27F37DB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DBF-1991-4847-B9C7-4CAC4469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B17-09FA-40AB-90C8-E6BDC8F3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9D7-A2E6-4577-A5C8-FDF895FA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545-8FFB-482F-87B7-37C1F768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D74-0A14-496F-BD3B-A1BCC929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FA161-78E7-4C86-9BAD-4BCE7D0550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