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05426"/>
        <c:axId val="62675020"/>
      </c:barChart>
      <c:catAx>
        <c:axId val="21605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75020"/>
        <c:crosses val="autoZero"/>
        <c:auto val="1"/>
        <c:lblAlgn val="ctr"/>
        <c:lblOffset val="100"/>
        <c:noMultiLvlLbl val="0"/>
      </c:catAx>
      <c:valAx>
        <c:axId val="62675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05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203-009B-4B68-81FB-766A9174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46B-0AA2-49AD-A0F2-40DEBA23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1AE-5450-4561-B550-C0A11C5A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1BE-9BF9-4C57-AE2D-AD20CB62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77A-CE94-4BB9-A9CC-DC0F140E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5BF-6F9B-48D6-A95B-1EFAAA7D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AA2-CD8C-420C-9988-4E76C24F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2E8-4D19-4FEB-BA95-7273604B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1ED-51D7-44DC-8EBA-0D8323D3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290-5E5F-48A8-8274-E4C6256E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871-B907-44F5-8040-562101DE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D34-CF46-4C07-B4DC-0431E4D7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156E2-8073-49B5-9295-FC67A7A6B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