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5448"/>
        <c:axId val="58161315"/>
      </c:barChart>
      <c:catAx>
        <c:axId val="8945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61315"/>
        <c:crosses val="autoZero"/>
        <c:auto val="1"/>
        <c:lblAlgn val="ctr"/>
        <c:lblOffset val="100"/>
        <c:noMultiLvlLbl val="0"/>
      </c:catAx>
      <c:valAx>
        <c:axId val="58161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5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6D3-4B75-491D-9A43-246EF746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A75-15AF-48B0-BC83-3F22A2DA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553-F0A6-4158-9A7B-4A7B0896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A24-D566-4B12-B586-A9B421C0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A39-E2A8-4B57-9B08-882298F7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672-3B41-4530-8B63-02189958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846-0C9B-41D1-BB95-E50135DC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E88-4F5C-4106-870B-2D66B6DA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A9E-885E-438A-827B-C9273A04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D09-34A4-4BB7-A3BD-6BFC26DE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5B1-2FEA-41F1-840F-4AC500C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E24-2CED-44F2-885A-F72472A8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7619B-0588-459A-890B-0E8C1D0D49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