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7377"/>
        <c:axId val="85468400"/>
      </c:barChart>
      <c:catAx>
        <c:axId val="5507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68400"/>
        <c:crosses val="autoZero"/>
        <c:auto val="1"/>
        <c:lblAlgn val="ctr"/>
        <c:lblOffset val="100"/>
        <c:noMultiLvlLbl val="0"/>
      </c:catAx>
      <c:valAx>
        <c:axId val="85468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7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DAA-316A-4744-9C20-F21B4088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9C0-1E47-4235-8B48-2F171456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487-1172-43E7-B373-5B0D2D48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D6E-17B2-400F-9253-E3576EB3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610-0E22-4C4F-B9DC-1E49C35B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E26-C475-4E0A-B724-F1277B6D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7C8-2C1C-4D8E-B39B-7E7C3842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2B9-476B-4922-B220-6CF57218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DF2-AE84-40AC-9018-DCB3AA83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4E9-1723-403C-A5AF-00766D9D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46A-EB74-431C-9C87-23CA971A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289-2522-4130-B796-784BEE76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2E6E5-4CC1-4608-80E9-8089CFBC8D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