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65135"/>
        <c:axId val="75505322"/>
      </c:barChart>
      <c:catAx>
        <c:axId val="93265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5322"/>
        <c:crosses val="autoZero"/>
        <c:auto val="1"/>
        <c:lblAlgn val="ctr"/>
        <c:lblOffset val="100"/>
        <c:noMultiLvlLbl val="0"/>
      </c:catAx>
      <c:valAx>
        <c:axId val="75505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5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0FB-BEE2-465B-B167-74FE33ED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C73-62B5-42D6-BA62-C22C5B3D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B24-BB2A-4772-A7A4-AF974E35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B4B-A5B8-49D1-B287-52D1B1D5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C61-8A5B-4130-9B5A-E40608DB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AF2-6CD2-4631-989F-CBE1826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FE2-43AC-40B6-8D9A-89BA28C9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3F6-69B3-46E2-8F94-C9AF1BCE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389-9DF4-43EA-97BB-9C3E7DA6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BE0-78A3-4F77-8FCD-B17ED5C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1BE-9A56-40C4-9454-FC32E04B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662-63C2-4F4A-97C0-7BFC2F7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1BDFE-5ACB-4069-9FA3-A841B2CC5C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