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37386"/>
        <c:axId val="24279080"/>
      </c:barChart>
      <c:catAx>
        <c:axId val="73237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9080"/>
        <c:crosses val="autoZero"/>
        <c:auto val="1"/>
        <c:lblAlgn val="ctr"/>
        <c:lblOffset val="100"/>
        <c:noMultiLvlLbl val="0"/>
      </c:catAx>
      <c:valAx>
        <c:axId val="24279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37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E87-E8BD-4FCE-B6C3-97C474DC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8BB-4C1C-40CD-A7BC-5A3E7F4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63A-2028-442C-B3B6-5625C9C3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809-F8DB-46FD-8EE9-951FD8EF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A57-2E72-49B4-87AD-4C03D08A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7D6-6618-4935-88EB-02DDB57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F89-6118-483D-A4DC-C15DCA0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78E-A2E4-4344-BA61-078E3C4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0F0-6596-471C-82E3-1E82FB5F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0D9-D221-49A0-B618-6C1B9DD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A50-7EB0-4ACD-B26F-14094F7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A50-5CE7-43C4-B7F1-EBF880C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08CFA-D33A-4E8E-9ECF-883B8B797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