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78782"/>
        <c:axId val="52149646"/>
      </c:barChart>
      <c:catAx>
        <c:axId val="46278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49646"/>
        <c:crosses val="autoZero"/>
        <c:auto val="1"/>
        <c:lblAlgn val="ctr"/>
        <c:lblOffset val="100"/>
        <c:noMultiLvlLbl val="0"/>
      </c:catAx>
      <c:valAx>
        <c:axId val="52149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78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E3E-F848-4483-9BA7-F5F4A402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ED8-439C-42FE-B726-70F3CBE0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9EA-334A-409A-9170-FA1DC549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64F-944B-42BD-98A1-78563F64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453-2541-47AD-8E18-B4EDF779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1A2-A601-4932-A67B-FDD80E96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99A-79F1-4A5B-9A72-3541F842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7C8-2C60-4E9C-9BD8-68609F2B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0F8-8113-4BB4-AF37-34E5DD73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394-896B-4085-9536-FAB57BCE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4BF-8197-446B-A541-3F20520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8AB-1AA7-4D30-8DFD-0E267FD6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B7C1B-CF94-486A-990B-61BFBD0742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