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6256"/>
        <c:axId val="91318924"/>
      </c:barChart>
      <c:catAx>
        <c:axId val="1346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18924"/>
        <c:crosses val="autoZero"/>
        <c:auto val="1"/>
        <c:lblAlgn val="ctr"/>
        <c:lblOffset val="100"/>
        <c:noMultiLvlLbl val="0"/>
      </c:catAx>
      <c:valAx>
        <c:axId val="91318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6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230-21E6-4DD6-828A-82DF29A4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081-CB12-4273-899B-F012EEA7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363-02B0-42C9-B55B-B3506535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2AC-DD87-4718-94EE-16909201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2FD-F6EB-4336-BAF2-11BA2B41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0B7-8750-4B0C-B904-3DD89FD0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128-A142-4F61-85D4-DF962C75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04F-1AE8-46E8-8C9B-08EB2AD1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4B4-FCC2-4489-95A5-AE98C51E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778-AB26-4D75-B615-424FCE4D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319-DB3D-4303-AE75-2B117F5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628-7E4A-4466-ABE8-9CA28BD3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2C6DC-3E5A-4E29-87DC-352CED0146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