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467"/>
        <c:axId val="46550222"/>
      </c:barChart>
      <c:catAx>
        <c:axId val="164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50222"/>
        <c:crosses val="autoZero"/>
        <c:auto val="1"/>
        <c:lblAlgn val="ctr"/>
        <c:lblOffset val="100"/>
        <c:noMultiLvlLbl val="0"/>
      </c:catAx>
      <c:valAx>
        <c:axId val="465502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21D0-302C-4FD4-990A-E4CC30646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01E9-B632-4D3B-BF76-56478A86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FEC7-D152-4DFC-94F4-C549D268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7475-3B24-4A70-A905-ADD88C6D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24B8-195D-477A-8817-52EF9758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8A77-E7DB-4B4C-914B-3D5D4717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9CF2-5C3F-4F82-ABED-7FC44C0F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C66F-AA13-41CD-9105-5B50DEE1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0D9F-369D-476E-A1D7-5E7D7C43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B305-7DEB-42D7-B1F8-0C1281D2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6F21-304A-4F67-A29A-C4A2A46E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E279-0296-44B1-8C7E-BE72B0B7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FD792-CB28-4890-A750-F76FFB6D75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