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27851"/>
        <c:axId val="86189910"/>
      </c:barChart>
      <c:catAx>
        <c:axId val="66627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89910"/>
        <c:crosses val="autoZero"/>
        <c:auto val="1"/>
        <c:lblAlgn val="ctr"/>
        <c:lblOffset val="100"/>
        <c:noMultiLvlLbl val="0"/>
      </c:catAx>
      <c:valAx>
        <c:axId val="86189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27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B87-492A-4B4D-889D-D3BA2793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E0A-86F5-4CF4-BC38-ED6FFFFD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1F8-4688-4007-844A-0D0A3D32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61E-BDF4-4B19-B79B-8F5951D1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4B8-A3AC-46C0-A442-5B8DA8A6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A6A-A67B-4F82-9BFD-9C62516F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0E3-A6D9-4E55-9F17-1BBB1602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80A-A56D-4D9F-8377-DEAD54C9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6EC-BB26-46A0-9BF0-DBFF4202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151-77AC-4C54-9C27-64A59DA5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E7D-BFC4-41BE-A140-6C0442F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2D6-3880-4A9D-9A21-24E91EE9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5C2C6-752F-497E-BAE3-773C4C9F93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