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41059"/>
        <c:axId val="17364201"/>
      </c:barChart>
      <c:catAx>
        <c:axId val="74641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64201"/>
        <c:crosses val="autoZero"/>
        <c:auto val="1"/>
        <c:lblAlgn val="ctr"/>
        <c:lblOffset val="100"/>
        <c:noMultiLvlLbl val="0"/>
      </c:catAx>
      <c:valAx>
        <c:axId val="17364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41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799-980A-42A6-904F-3F877C46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C9F-3223-4EDD-A4A4-1A5A97DD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15E-17EC-4C15-9E68-BBFA2BC7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963-B2EC-4C65-A934-CFF0ADEF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876-52AE-4B6F-96F4-645A2A01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277-8406-4383-B08E-36E1C417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FDD-0BD1-4FF6-9D43-E9A29161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5A8-7068-4817-BEC0-D3530022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102-9C9B-4003-AD0E-80FEA6F1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66A-6770-4137-81C8-FDACD9EE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5C0-319B-42C0-9C2B-11EA519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C50-4642-472D-B0AE-8862ADF8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DFD00-4E27-48BC-A336-C503B2C998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