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035470"/>
        <c:axId val="12414848"/>
      </c:barChart>
      <c:catAx>
        <c:axId val="990354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414848"/>
        <c:crosses val="autoZero"/>
        <c:auto val="1"/>
        <c:lblAlgn val="ctr"/>
        <c:lblOffset val="100"/>
        <c:noMultiLvlLbl val="0"/>
      </c:catAx>
      <c:valAx>
        <c:axId val="124148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0354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6EA4-43CE-49F0-83F0-0A7EDA086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23B8-EA90-4674-A75F-EAFCE09B0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355F-1247-4F0B-AF7D-2F58B9613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9B1E-8F9C-4683-A2B4-D40BB85EF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6FA6-3DD8-43D3-AC5C-CB64BCED8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C54B-8770-4111-9173-942443B62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47C3-8B1E-4AFC-BF9E-8330A3296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1129-29CA-479C-94A5-89D58CD2F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935F-46D5-4F4D-A288-66701DA78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8DB5-C330-47D4-BF52-5EABDCF6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5D38-AD2F-427A-9C5D-464D07D6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C6F2-78AB-4F8F-88F7-BE17D9C7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F825F0-86D5-4220-BC08-61A83D318E6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