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67699"/>
        <c:axId val="84943849"/>
      </c:barChart>
      <c:catAx>
        <c:axId val="29867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3849"/>
        <c:crosses val="autoZero"/>
        <c:auto val="1"/>
        <c:lblAlgn val="ctr"/>
        <c:lblOffset val="100"/>
        <c:noMultiLvlLbl val="0"/>
      </c:catAx>
      <c:valAx>
        <c:axId val="84943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67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FAB-3F79-4E91-B6B8-A728AD68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BFF-C9D1-459B-A6E0-2DA03AA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23D-3855-45AE-AB5A-9CEF14AA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089-2855-4B0E-AC05-1476F2DC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8F8-BB70-410B-9B88-833E83D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524-E0DB-42FC-B294-CB95B467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DE3-76AE-4B00-AF91-BF7EBE0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060-D3F2-4216-9D5F-E34B738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49B-17ED-4C18-818E-21EF7CC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EDB-58DD-444E-A319-73DD61E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5CF-B858-4C03-BAF9-A26868D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199-63A0-4E3D-914C-D3EC086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DEE51-537C-41FD-A3C3-60829B6366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