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75798"/>
        <c:axId val="77637480"/>
      </c:barChart>
      <c:catAx>
        <c:axId val="31075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7480"/>
        <c:crosses val="autoZero"/>
        <c:auto val="1"/>
        <c:lblAlgn val="ctr"/>
        <c:lblOffset val="100"/>
        <c:noMultiLvlLbl val="0"/>
      </c:catAx>
      <c:valAx>
        <c:axId val="77637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5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268-0EF7-4C63-A440-4268CD30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DE3-9FF0-4455-B878-5A130750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292-0C5E-4606-8B4A-0D563B80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A33-425D-4DA7-AB5B-17EFC674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053-C397-4EA3-B730-AF7F380A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86E-34EE-4BF0-944D-A17F26FC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A37-4216-4195-8B65-02326EA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269-6E8B-4232-B0E9-927B6EEC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1FC-0534-43D1-98BD-BF38D6A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08C-B430-4D95-9F94-3EEA48D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093-C4D8-48C0-A6EE-53474D8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38C-2F4A-4B44-B145-4AF0BF6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92E1C-98C7-4EF6-9DBE-2E8D0963CD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