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452002"/>
        <c:axId val="75742159"/>
      </c:barChart>
      <c:catAx>
        <c:axId val="404520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42159"/>
        <c:crosses val="autoZero"/>
        <c:auto val="1"/>
        <c:lblAlgn val="ctr"/>
        <c:lblOffset val="100"/>
        <c:noMultiLvlLbl val="0"/>
      </c:catAx>
      <c:valAx>
        <c:axId val="757421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520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E338-933B-4C2E-8935-9112A0E51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2FFF-EC0A-4139-8715-0CDE1983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289F-7233-4F53-9C7B-9F2BAA8A0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54F5-6581-4422-BBBF-696BF0B7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CEF7-9C1F-4F3F-9E71-54C8BA1B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414E-D113-4AEE-9127-D40DFC0D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E61A-3F6D-4C1C-A457-DF7B6AF1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47C0-B789-4510-86C6-9297E98C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52EF-AEF2-4037-8AFB-2C78BEEE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9D52-73C5-4C24-8BE9-C980E8A7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4DBA-8D37-4637-B886-9CDA3C8C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FD96-9334-4994-BE78-526DAC48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A3A90-AA84-42F7-B28C-A939B3A033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